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5D6-75C4-4272-9B36-2A1554D6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9F3-CD98-4728-B625-DA549088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552-EE22-44A4-91E8-9A4D2291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1E5-38E8-44A5-95C2-38253BF9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9B20-FB88-45FF-9F8D-7BCAB36C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67B6-3AB2-425D-9177-46DD973F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7FED-A18B-43E7-A8AF-BAF4A1FA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4419-451B-4BB8-9115-689D5CE1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6AC0-003C-44D2-A1FF-B5ABF3F6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BF61-97D7-4208-BD48-E7DB1372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CCF6-BBB7-40F2-8494-2C14E8E1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D7B-FB1C-4A5A-8AC7-5439EE6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C833-6F3B-4950-9967-A71144E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D897-E14E-46D0-8D9C-4E62B5C3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F3E5-1C2F-4FAD-97AA-8910372A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A9AE-778E-4F72-B31F-CD46771D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7F8D-070A-47A1-8A51-A01F12EF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5687-067D-4AB9-8D2D-B43CF804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FDB1-634C-42DB-BEBE-4D86C9BC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D04F-BCFC-4A3B-BF11-56A538A0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2954-6361-414B-90CF-F7203AD0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E394-6E45-453E-8F5E-0EB4422F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A4A-170F-4295-97AC-4532D4FD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DC14-9BCE-4469-AD2A-4250A231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F7A9-EA0D-4A36-BBFF-B11AC1A6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1535-76F3-40FF-B315-2840FC35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1364-1BA2-4EEA-BA1F-68384186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86A8-052B-401F-B911-F4E876A8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659F-DF99-4398-97EE-285C9582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2BF4-36F5-4C93-9B2E-C2CE542B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F94B-C770-4C34-864D-5C32C9CB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4132-3DFA-4BF8-9806-B9B4AB57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9F56-025E-4106-8A5F-4EAC3B90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565-0170-4E9B-99B5-77B7ACD8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065B-2B0D-4883-835F-75129B97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5FF7-C57A-413A-869A-D818156A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CAB19-3379-4C1E-B028-DF88E831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0BDA1-746B-42D6-9282-2734D49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7FF5-EEE0-417F-9B31-08B3C94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B3B4-B6C8-44F4-8D7C-B59E223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99AE-72BF-48B4-8365-C44636E7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E18A8-9E7D-4B15-A7E9-11503CCD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9D2F-C87C-4E99-98F0-A4595115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78DB7-4744-4558-827D-6D6C2EA0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125-614F-46CA-AACA-A12B1239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6113E-A6CE-435B-AA8F-0C14BACA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166A-50E6-49F0-B5A3-B37C1694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DFB9-86A7-4C77-B28E-7C971442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5AA95-73D4-4C17-A557-5E053D5F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78951-C872-4416-A836-A9D6C30F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C8B03-8EC5-42A9-BAE4-79AB024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C89C7-F3E0-4A4E-87B0-17968C2A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99C3C-2CB0-474E-9876-531F321C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9830-748D-4B07-9FB2-B0CB5CF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FFFA0-2C06-44E4-A443-B767DA3C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FE5-89E4-4D4B-8A2A-831BB0E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B775-1661-4EDA-A379-3A0AC687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1BB0-AC5A-4C8D-AB3B-750D093F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7909F-66BD-445D-AEC3-E724DEC7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B65B7-887D-42A1-8735-7FBFC39F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5830-1FAD-45E5-9B8D-2110A950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F79D-E898-4DAA-B21A-1CBE4BFD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1F54C-F6DE-448B-B4BE-71FAC5B9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37923-6543-40B9-8754-C9C35FA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B9EED-E3D8-48B1-946E-C1D30B4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428C6-6797-44C9-89EC-4AD0B63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155-7D33-4ADB-A863-E4102CA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13B77-4E99-4D79-9FEA-A84012F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A6462-4DEC-4845-8A8D-7F96864C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F7300-06B7-423F-BC5D-97C843B8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E875F-0E2E-4948-AB0B-B1B01B34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4EB99-5FB8-46E0-A083-343B9C4C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FF795-8F81-43BF-BD4A-D436CE2A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0DC20-CB53-4A42-808B-8BB7C9DD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163D8-0D71-4DB5-84E6-7F8890CF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CA6B3-2CB6-47C3-AF19-70973E6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6341A-0A10-4E67-8BD6-D98FCD1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2B5-2BB1-433B-8B3A-C4B327BD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0B571-939F-43EF-93FC-6B7846D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993AA-A6C1-4A76-942B-CDFB92F6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45816-3EC5-4096-93A6-CD258747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0FBA2-2BA4-4810-88C9-43DC006C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7D391-F7E0-404B-B492-47AC56AF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B2613-AF82-4B38-9B17-B6A03BCE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A68D5-8B9A-45E2-B3C1-1057423C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0ED47-7E24-4EC6-A521-48939AC1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5163D-B047-420F-9062-EA198BA3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D07CA-F8A7-4F0B-9FED-9F01DB1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FF4-9E7A-4334-A228-C70BFA46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8D55B-7A2C-49FC-8186-7E5BAC66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F3918-F5AE-4ABD-A4D2-8ABA46B1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2A14-A56D-48E4-A0B7-996A442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6672A-EB07-4614-A446-5F117C46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A5258-6EF0-49D6-97D3-E0513AD6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65EBD-54D2-4A12-ACF8-5144FF58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0581C-3C7E-45F8-B062-E056CA5E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89CE-8633-46BC-87A0-E2E946BF6D4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4729-2506-4217-91A4-79ACC4EFEDF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01D4-80AE-4DD0-A0CF-593283AF28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C2AE-5F30-44AA-B967-D0736FA251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5EE0-771F-4D14-9C36-E48EB7303C8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B3F0-2B7D-4212-875E-F67999DD1A6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98B-B0DA-4892-9C23-7466A57A3FA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A7F8-9809-4E7D-8255-C74C5B0D97A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orm of mRNA detaching from the DNA is not ready to be read y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must go through two proce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teration of end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licing of reg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5’ end gets “capped” by a modified version of guan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5’ cap holds the pre-mRNA together and acts as a recognition molecule for riboso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the 3’ end, a region of 30 to 200 adenine nucleotides is added – called a poly(A) t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gain, to assist in holding the pre-mRNA togeth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3" descr="C:\Users\jeremy.smith\Desktop\700px-MRNA_structure.svg.png"/>
          <p:cNvPicPr/>
          <p:nvPr/>
        </p:nvPicPr>
        <p:blipFill>
          <a:blip r:embed="rId1"/>
          <a:stretch/>
        </p:blipFill>
        <p:spPr>
          <a:xfrm>
            <a:off x="0" y="2057400"/>
            <a:ext cx="9441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arge portion of the pre-mRNA will not leave the 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rtions are cut out, and the flanking regions are joined toge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gions that are kept are exons, ones that are not are intr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871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rt regions of nucleotides at the end of introns signal their remo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nuclear ribonucleoproteins, snRNPs, join up with other proteins to form a splice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carries out the splicing proce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ttp://www.youtube.com/watch?v=WsofH466lqk&amp;feature=rela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w the mRNA is ready to be transl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the message is “read” three nucleotides at a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he codon tripl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12_03_08"/>
          <p:cNvPicPr/>
          <p:nvPr/>
        </p:nvPicPr>
        <p:blipFill>
          <a:blip r:embed="rId2"/>
          <a:stretch/>
        </p:blipFill>
        <p:spPr>
          <a:xfrm>
            <a:off x="1828800" y="3352680"/>
            <a:ext cx="51814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don is interpreted by transfer RNA (tRN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version has a nucleotide triplet of its ow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serves as the complement to the codon of m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nce, it is the anticod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64 permutations are covered by tRNA molecules, carrying the 20 different amino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ever, there are only about 45 difference tRNA molec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many cases, the first two nucleotides are sufficient for recog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55752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each tRNA carries one, and only one, amino ac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ttachment of tRNA to amino acid is mediated by an aminoacyl-tRNA synthetase enzy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 different versions, one for each amino aci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plication of DNA takes place in S phase of interph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 DNA is also used during 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ssemble protei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process is broken down into two distinct segments: transcription and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entire human genome is found in every cell, but only a portion is activ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portion has to convey the message outside the 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39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nteraction of tRNA and mRNA takes place in a rib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s of two protein subunits and ribosomal RNA (rRN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in the ribosome are three binding s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 site (peptidyl-tRNA site) where the tRNA holding the polypepetide ch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site (aminoacyl-tRNA site) where next tRNA in line is hel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 site (exit site) where used tRNAs are discharg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s with initi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subunit of ribosome attaches to leader segment of m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tor tRNA bearing methionine then attaches, followed by attachment of large ribosomal subun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though methionine is initially attached, it is sometimes remov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xt stage, elongation, is now 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86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broken into three distinct ste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don recognition – mRNA codon hydrogen bonds with tRNA anticodon in A si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ptide bond formation – rRNA molecule catalyzes formation of peptide bond (amino acid-amino acid bond) between adjacent amino acids in A and P sit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nslocation – amino acid in A site is moved to P site, and is now carrier of growing polypeptide chain (AA in P site moved to E site for removal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2943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133200" y="1281240"/>
            <a:ext cx="8877600" cy="4295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3657600" y="5943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5bLEDd-PSTQ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lation is finalized during termin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ee stop codon triplets UAA, UAG and UGA, do not code for any amino ac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ther, a protein called a release factor binds to stop codon, causes a water molecule to att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olypeptide chain is released and is ready for the folding process that will make it a functional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77440" cy="29718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914400" y="51814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SMtWvDbfHLo&amp;feature=relmf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990720" y="5867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TfYf_rPWUdY&amp;feature=relmf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possible to translate a gene directly to a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NA has to be used as an intermedia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te similar to DNA, with a few key differ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ally, it contains a ribose sug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has a hydroxyl group in the 2’ position instead of a hydro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151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itionally, RNA tends to be single stranded, and contains uracil in the place of thym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is not capable of leaving the 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omplement of one of the strands is transcribed as 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lled messenger RNA (mRNA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NA polymerase (II in eukaryotes) serves the duel purpose of splitting the strand and attaching the complementary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gain, in the 5’-&gt;3’ direc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binding is not rand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region of DNA, called the promoter, initiates transcri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rder of nucleotides in the promoter determines which strand gets transcrib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eries of proteins, called transcription factors, bind to the promo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 example, a TATA box is a part of the promoter reg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roup of TFs and RNA pol is called a transcription initiation compl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147760" y="414360"/>
            <a:ext cx="484848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cription proceeds until a terminator is reac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ctual detachment process is still a bit “iffy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5:02:08Z</dcterms:created>
  <dc:creator>ED18</dc:creator>
  <dc:description/>
  <dc:language>en-US</dc:language>
  <cp:lastModifiedBy>ED18</cp:lastModifiedBy>
  <dcterms:modified xsi:type="dcterms:W3CDTF">2012-02-29T19:06:53Z</dcterms:modified>
  <cp:revision>139</cp:revision>
  <dc:subject/>
  <dc:title>Transcription</dc:title>
</cp:coreProperties>
</file>